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BCB-A3BA-4F85-A1C0-31171189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431-1178-4F9B-AB2C-FFAED90B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D23-7C71-42E4-8F89-9D0B93B5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7E9-5816-4151-B4AD-18184EC3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B78A-9676-4E1C-8628-F19FDC07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08EA-461F-49C1-97F0-72B8C547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F6D1-1D0B-4A9B-8F96-D46D12F9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10E7-74F3-4076-81F3-9345C721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A9A7-7A8A-4353-B0C4-5E170E7C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1BA1-86C3-4C3A-8DD6-7961DC4D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107B-58C3-4D1E-8865-1783ADA5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3E8-E68C-4A54-B9FE-4711F3E9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E624-5C84-4602-8C41-F1BF6C5A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A947-2A5D-4F91-BC6F-49CA9FFD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20A7-C0A9-4C9A-B9EA-83926745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FC9C-B80A-421C-83E3-6321B32C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AA03-FD00-4C6E-AE7D-E94389A5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3C0A-056B-4C5E-B2AB-F8E1FFC2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53C-ED62-4CD5-864D-37EE0F9E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282-DBD5-431D-A436-043DB9F1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125-1E58-4391-AFBE-229E7A5C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DA4-A236-422B-A74B-DED10F77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21DB-65E7-4934-A457-D3577425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096-8EF2-44B4-8DDB-AA191FFD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FDE4-5DBE-4157-B8FF-33C19CD760CA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CC5D-1381-4073-B58F-22CF1A12CB1E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ffffff"/>
                </a:solidFill>
                <a:latin typeface="Arial"/>
              </a:rPr>
              <a:t>Formazione DLgs 59</a:t>
            </a:r>
            <a:br>
              <a:rPr sz="4200"/>
            </a:br>
            <a:r>
              <a:rPr b="1" i="1" lang="it-IT" sz="4200" spc="-1" strike="noStrike">
                <a:solidFill>
                  <a:srgbClr val="ffffff"/>
                </a:solidFill>
                <a:latin typeface="Arial"/>
              </a:rPr>
              <a:t>Anno scolastico 2004/05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Corso ……………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Area……………………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  <a:ea typeface="Times New Roman"/>
              </a:rPr>
              <a:t>Validità del cors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frequenza del corso è valida  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raggiungon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tti i cred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ichiesti per la parte on line ( 48 CREDITI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frequenta il corso in presenza per il 75% dell'orario, pari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 ore e mezz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e si maturano i  crediti 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2 credi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sono attribuiti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in modo forfettari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quando viene scaricato il primo materiale in formato 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2 credi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sono attribuiti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in modo forfettari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opo il primo intervento in uno dei forum tema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 2 a 6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rediti per ogni laborator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 crediti sono dichiara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nella scheda di apertura del laborato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996560"/>
            <a:ext cx="777240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2060280"/>
            <a:ext cx="640080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765000"/>
            <a:ext cx="55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IEPILOGANDO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1640" y="2019240"/>
            <a:ext cx="7272000" cy="3496320"/>
            <a:chOff x="971640" y="2019240"/>
            <a:chExt cx="7272000" cy="3496320"/>
          </a:xfrm>
        </p:grpSpPr>
        <p:cxnSp>
          <p:nvCxnSpPr>
            <p:cNvPr id="117" name="_s31751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530320" y="2494080"/>
              <a:ext cx="699840" cy="2545920"/>
            </a:xfrm>
            <a:prstGeom prst="bentConnector3">
              <a:avLst>
                <a:gd name="adj1" fmla="val 20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31752"/>
            <p:cNvCxnSpPr>
              <a:stCxn id="121" idx="0"/>
              <a:endCxn id="119" idx="2"/>
            </p:cNvCxnSpPr>
            <p:nvPr/>
          </p:nvCxnSpPr>
          <p:spPr>
            <a:xfrm flipV="1">
              <a:off x="4607640" y="3417480"/>
              <a:ext cx="2880" cy="69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31753"/>
            <p:cNvCxnSpPr>
              <a:stCxn id="123" idx="0"/>
              <a:endCxn id="119" idx="2"/>
            </p:cNvCxnSpPr>
            <p:nvPr/>
          </p:nvCxnSpPr>
          <p:spPr>
            <a:xfrm flipH="1" flipV="1" rot="5400000">
              <a:off x="2985120" y="2494440"/>
              <a:ext cx="699840" cy="2545920"/>
            </a:xfrm>
            <a:prstGeom prst="bentConnector3">
              <a:avLst>
                <a:gd name="adj1" fmla="val 20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9" name="_s31754"/>
            <p:cNvSpPr/>
            <p:nvPr/>
          </p:nvSpPr>
          <p:spPr>
            <a:xfrm>
              <a:off x="3516840" y="2019240"/>
              <a:ext cx="2181600" cy="1398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48 CREDIT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31755"/>
            <p:cNvSpPr/>
            <p:nvPr/>
          </p:nvSpPr>
          <p:spPr>
            <a:xfrm>
              <a:off x="971640" y="4116960"/>
              <a:ext cx="2181600" cy="1398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teriali di stud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2 credi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31756"/>
            <p:cNvSpPr/>
            <p:nvPr/>
          </p:nvSpPr>
          <p:spPr>
            <a:xfrm>
              <a:off x="3516840" y="4116960"/>
              <a:ext cx="2181600" cy="1398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terventi nei for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2 credi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31757"/>
            <p:cNvSpPr/>
            <p:nvPr/>
          </p:nvSpPr>
          <p:spPr>
            <a:xfrm>
              <a:off x="6062040" y="4116960"/>
              <a:ext cx="2181600" cy="1398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Laborator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44 credit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ffffff"/>
                </a:solidFill>
                <a:uFillTx/>
                <a:latin typeface="Arial"/>
              </a:rPr>
              <a:t>Patto formativ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enendo conto c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percorso formativo DLgs 59 si  basa sul modello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-learning integra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nel quale si alternano alla formazione on-line momenti di formazione in presenz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modello standard raccomandato da Indire,al quale ci si è uniformati,  prevede un monte ore totale di 42 ore, di cui non meno di 24 on-line e almeno 18 in presenz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gni corsista si impegna 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ecip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gli incontri in presenz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ispettand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gli ora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cegliere e personalizz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il proprio percorso formativo (con il supporto dell’e-tutor) scegliendo i laboratori da sviluppare per il raggiungimento del monte credi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gge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materiali di studio prima degli incontri in presenza secondo il percorso scel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ecip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 modo fattivo e costruttivo ai momenti di discussione, di confronto e di scambio di idee in aula e in rete (classe virtuale – forum - cha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icare, interagire  e condivide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el proprio gruppo, con gli altri corsisti e con l’e-tutor le scelte didattiche, operative e organizzative, i  materiali, le attività laboratoriali  e le proprie esperienze, in aula e a distanz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229600" cy="63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891360" indent="-479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cializza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agli altri gruppi di lavoro i materiali di studio approfonditi e le attività laboratoriali negli incontri in presenza e/o allegando relazioni in classe virtual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ttopor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all’e-tutor, in via preliminare, le attività laboratoriali da inviare in piattaforma per semplificare la successiva “validazione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hiedere all’e-tutor, che socializzerà la richiesta all’intero gruppo dei corsisti (negli incontri in presena e/o in classe virtuale) di rendere pubblici  nell’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Area knowlegde managemen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allegati nei forum tematici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   - allegati nella CV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   - elaborati previsti dalle attiv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2296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’e-tutor si impegn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testualizzare, organizzare e gesti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rocesso di form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acilit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a fruizione dei materiali della piattafor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guire e guid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gni corsista nella scelta e personalizzazione del proprio percorso formati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ssicurare un suppor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ella scelta dei materiali di studio da approfondire e dei laboratori da svilupp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acilit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l’uso delle risorse del percorso formati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re continu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gli incontri in presenza e alle attività on li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oordin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e attività in presenz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rganizzare, stimolare e coordinare la discuss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tra i corsisti, anche e soprattutto con l’aiuto della classe virtual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nima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grupp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imolare e guida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la socializzazione delle conoscenze acquisite e delle attività svolte, individualmente o in grupp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ffri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ssistenza in rete e aiuto ai corsisti durante l’attività di autoform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isolve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ventuali problemi tecnici e problemi relativi all’utilizzo dei softw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rganizz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hat tematich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il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il registro virtual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intetizz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 dati contenuti nel registro virtuale per consegnarli al direttore del corso per l’Attestazione crediti ottenuti da ogni corsis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isiona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ima dell’invio in piattaforma 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alida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i le attività laboratoria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ocument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e attività svolte dai singoli corsisti dall’interno della classe virtuale ai fini dell’attribuzione dei credi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il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l modello di attestato di Indire e consegnarlo al Direttore del corso per il rilascio degli attesta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ocializzare alla classe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richiesta di singoli corsisti o di gruppi di lavoro (negli incontri in presena e/o in classe virtuale) per la pubblicazione   nell’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Area knowlegde managemen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  d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allegati nei forum tematici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- allegati nella CV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- elaborati previsti dalle at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direttore del corso si impegn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ur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tutti gli adempimenti amministrativi del corso (contratto e-tutor, firme, presenze, ecc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ura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condizioni logistich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ilasciare l’attestato fin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tenendo conto di quanto documentato dall’e-tu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Seguono le firme del direttore del corso, dell’e-tutor,  dei corsisti….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 TEMP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esenza :  18 ore (6 incontri di 3 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line :        24 ore (calcolate in base 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sistema di credi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21:39:06Z</dcterms:created>
  <dc:creator>Annamaria Cino</dc:creator>
  <dc:description/>
  <dc:language>en-US</dc:language>
  <cp:lastModifiedBy>Antonella Piccolo</cp:lastModifiedBy>
  <dcterms:modified xsi:type="dcterms:W3CDTF">2005-02-26T10:10:45Z</dcterms:modified>
  <cp:revision>3</cp:revision>
  <dc:subject/>
  <dc:title>Formazione DLgs 59 Anno scolastico 2004/05</dc:title>
</cp:coreProperties>
</file>